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471-36BA-49FE-B971-35D19BDE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634-7DCA-49A6-91D5-227F447D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98F-9818-4F5E-A8E6-5B8DB929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950-F7CF-44AF-BF6C-C71CA65E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E02-34E1-4808-AB87-26062926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3575-F1EE-440D-8389-CB23BE7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EE8-00B9-4FCA-B214-6360EF0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AFDD-C89D-4142-87EE-DFF1430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46E-C778-47B4-AD57-EFDEFF4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1407-665D-413F-B897-9371E476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9A4-6B9A-4E09-BE9D-03E8BFB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AB1-ED40-45CF-BDD4-53C5F37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1EAC-6E02-4AA4-9E5B-4C64EEB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CC0-27E1-44CB-921D-7801CDD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9F0-6461-400B-B032-9C8CAADF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061B-732D-4719-AF5B-E90B166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DB43-F6C3-4DFF-8996-BB3EC337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A19-579A-4133-B138-CC68F6A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A7F-DDA0-47CC-9B0E-627E353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3B4-2BEE-4393-B136-EC6E760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406-43B2-44AC-8B08-E99D836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DA8-2BAF-48F1-8C41-C6E777A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A40-6A86-4B13-A642-96A84AF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4EC-3EE5-403D-8C34-9542189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195640" cy="2694960"/>
              <a:chOff x="3600" y="3639600"/>
              <a:chExt cx="219564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98640" y="6161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0080" y="61506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372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08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81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132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29480" y="61621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36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4840" y="5692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6680" y="5722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152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3080" y="5551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6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5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244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5120" y="5403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0200" y="54356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7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430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165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5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4640" y="48276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112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3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5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2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1000" y="4030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4480" y="4060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8240" y="4087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704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520" y="497988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7560" y="4992840"/>
                <a:ext cx="16365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360" y="3926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47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1360" y="3851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4560" y="38649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480" y="38754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8944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0680" y="3804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5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56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3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440" y="382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5640" y="381996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96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2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8360" y="3886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4440" y="38703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4040" y="38548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0080" y="4047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2240" y="3997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74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58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0120" y="393444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2096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4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27720"/>
                <a:ext cx="5032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47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38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200" y="37540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8972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59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650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6040" y="4105440"/>
                <a:ext cx="274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0880" y="4268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2960" y="44524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5000" y="46508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920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0200" y="507960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188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8360" y="4838400"/>
                <a:ext cx="35064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56700F-A823-4DE9-9D1D-71B32244002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195640" cy="2694960"/>
              <a:chOff x="3600" y="3639600"/>
              <a:chExt cx="219564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98640" y="6161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0080" y="61506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372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08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81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132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29480" y="61621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36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4840" y="5692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6680" y="5722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152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3080" y="5551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6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5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244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5120" y="5403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0200" y="54356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7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430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165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5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4640" y="48276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112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3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5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2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1000" y="4030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4480" y="4060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8240" y="4087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704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520" y="497988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7560" y="4992840"/>
                <a:ext cx="16365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360" y="3926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47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1360" y="3851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4560" y="38649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480" y="38754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8944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0680" y="3804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5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56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3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440" y="382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5640" y="381996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96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2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8360" y="3886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4440" y="38703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4040" y="38548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0080" y="4047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2240" y="3997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74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58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0120" y="393444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2096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4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27720"/>
                <a:ext cx="5032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47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38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200" y="37540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8972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59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650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6040" y="4105440"/>
                <a:ext cx="274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0880" y="4268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2960" y="44524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5000" y="46508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920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0200" y="507960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188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8360" y="4838400"/>
                <a:ext cx="35064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F3CAF-430A-4CDE-9CE7-E6F0CBFFD0F5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cialistgroup.org/gpes/images/ms/bird_oil_pollution_040406.jpg&amp;imgrefurl=http://www.socialistgroup.org/gpes/images/ms/&amp;h=210&amp;w=317&amp;sz=54&amp;tbnid=oBCA5-KJDWYJ:&amp;tbnh=74&amp;tbnw=113&amp;hl=en&amp;start=4&amp;prev=/images%3Fq%3Dbird%2Bpollution%26svnum%3D10%26hl%3Den%26lr%3D%26rls%3DGWYA,GWYA:2005-29,GWYA:en%26sa%3D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cc"/>
                </a:solidFill>
                <a:latin typeface="Tahoma"/>
              </a:rPr>
              <a:t>Animal Surviva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ALT: to know that animal survival is under th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hi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But the existence of this species is increasingly threatened, due to poaching and habitat los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96108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Marine Turt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reats like hunting for meat, shell and eggs; habitat destruction; fisheries bycatch; pollution; boat strikes; and introduced predators have wiped out entire turtle pop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103640" cy="287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Why are these animals facing extinc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ar torn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unting and poaching (for sport, their fur, tusks or mea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llution/chemicals poison the anim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ew pred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imate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truction of habitat (woodlands cut down, rivers drying up, hedgerows remov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Caring for the Environment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member - once something becomes extinct, it’s gone forev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Near 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re habitats destroyed where we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ES! To make room for motorways and housing e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hat creatures can be hunted for spo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re creatures are still caught and sold as p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What is happening to help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Zoos, national parks and breeding in captivity means that species of animals are being preser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What can you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n’t leave litter beh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n’t damage or destroy trees, hedges and wild grassland- animals have homes to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769080" cy="52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76500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857320" cy="3210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4067280" y="836640"/>
            <a:ext cx="216216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046680" cy="37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ome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 1950, 15% of the world was covered by rainforest. By 2000 it is estimated that only 7% of the rainforest will rem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y 2042 no rainforests will ex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0% of all living things are found in the 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will be no tigers left in the world in 2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has been animal and plant life on the Earth for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have been many changes in climate, animals and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is has led to the extinction of many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nce humans emerged animals and plants are dying out at a greater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dangered or Extinc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ut this is not true for all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 some cases, there are only a few of one type of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left in the wi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se animals are endang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f they die out completely, they become extin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506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idered humans' closest relatives, great apes are among the world's most fascinating 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fortunately, they are also among its most threatened. Great apes of Africa and Asia could face extinction in the next few decades if more is not done to conserve the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276720" cy="46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6800"/>
            <a:ext cx="85406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y live in war-torn regions and are threatened by hunting for the commercial bushmeat tra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habitats are being destroyed and diseases such as Ebol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orangutan, is also losing much of its habitat to deforestation and deliberate burning to make way for agriculture and oil palm plan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leph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50403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phants are the largest living land animals, with adults sometimes weighing six tons or mo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phants are threatened by shrinking living space and poaching for the ivory t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s habitat shrinks, their huge appetite can bring them more frequently into conflict with peop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2975040" cy="424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an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t is estimated that as few as 1,600 pandas remain in the wild toda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limate change is causing the disappearance of sea ice from which polar bears hunt their pr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ith less time on the ice to hunt for food and store leaves polar bears hung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154760" cy="43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36:12Z</dcterms:created>
  <dc:creator>Spud</dc:creator>
  <dc:description/>
  <dc:language>en-US</dc:language>
  <cp:lastModifiedBy>Pitchford</cp:lastModifiedBy>
  <dcterms:modified xsi:type="dcterms:W3CDTF">2005-11-15T15:16:30Z</dcterms:modified>
  <cp:revision>4</cp:revision>
  <dc:subject/>
  <dc:title>Animal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